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4438-A602-49EC-B98C-3A687124B4C0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57C-F2D7-4F5F-9A9E-06A58987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907-9418-442E-86D5-356AA67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86A-55C4-4A8A-AE72-3361BD9F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31B-526C-489B-A5C2-F90B9D28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34F-6A5A-442B-A06A-D9A457C6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F20-30EB-4F54-A60A-14ABA3C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260-1A5F-46AC-8806-DDD88C0F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554-FD99-407B-9299-333D5FB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6C5-8317-411E-9F68-3C35600A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EF5-5516-43ED-AC46-E78DA5D6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1FE-BD01-4120-8C63-0C8FB73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93E-133E-48D9-976F-A383EECB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460D-CF06-4D4B-B712-F248CC9BB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bitalmodell im gymnasialen Chemieunterr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psis der Unterrichtsei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ung der Wellenfunk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Born (19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chnung der Aufenthaltswahrscheinlichkeit des Elektrons aus der Wellenfun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albeg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5" descr="MaxBorncrop"/>
          <p:cNvPicPr/>
          <p:nvPr/>
        </p:nvPicPr>
        <p:blipFill>
          <a:blip r:embed="rId1"/>
          <a:stretch/>
        </p:blipFill>
        <p:spPr>
          <a:xfrm>
            <a:off x="1763640" y="2276640"/>
            <a:ext cx="1497240" cy="215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238560" cy="153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Perioden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49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etzung der Orbitale mit Elektr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3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fbauprinz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prinzi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i-Prinzip (Sp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sche Reg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1:</a:t>
                      </a: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alen, Unterschalen, Kreuzung der Unterschalen (3d/4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2:</a:t>
                      </a: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ppelbesetzung der Wol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lständige Herleitung des Periodensystems einschliesslich der Nebengruppen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: „Geisterstunde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ausale Erklärung (a p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80000" y="2389320"/>
            <a:ext cx="206532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Perioden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86080" y="1484280"/>
            <a:ext cx="61722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uversuch von</a:t>
                      </a: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Rutherford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-Hüllen-Mod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iderspruch zum Coulomb-Gese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2960" y="2347920"/>
            <a:ext cx="374976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1080" y="2529000"/>
            <a:ext cx="3527280" cy="179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isierungsenerg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lenmodell von N. Bohr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027080" y="2421000"/>
            <a:ext cx="2962440" cy="216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2349360"/>
            <a:ext cx="269892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6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mmenfarben, Linienspekt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lenmodell von N. Bohr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e: Flamenfarben, Linienspekt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chreibende Erklärung (a poste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57800" y="2349360"/>
            <a:ext cx="2698920" cy="215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_change_the_color_of_candle_flame"/>
          <p:cNvPicPr/>
          <p:nvPr/>
        </p:nvPicPr>
        <p:blipFill>
          <a:blip r:embed="rId2"/>
          <a:stretch/>
        </p:blipFill>
        <p:spPr>
          <a:xfrm>
            <a:off x="1042920" y="2349360"/>
            <a:ext cx="2684520" cy="21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geset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chärfebeziehung von W. Heisenberg (19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Bohrsche Atommodell widerspricht der Unschärfebezie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as nu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217332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eisenberg_klein"/>
          <p:cNvPicPr/>
          <p:nvPr/>
        </p:nvPicPr>
        <p:blipFill>
          <a:blip r:embed="rId2"/>
          <a:stretch/>
        </p:blipFill>
        <p:spPr>
          <a:xfrm>
            <a:off x="5435640" y="2349360"/>
            <a:ext cx="226368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48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hersage/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encharakter des Elektrons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en/Teilchen-Dualism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: Beugung der Elektronenwe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chlüsselerkenntnis bei der Herleitung des Orbitalmod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5" descr="elektron_interferenz"/>
          <p:cNvPicPr/>
          <p:nvPr/>
        </p:nvPicPr>
        <p:blipFill>
          <a:blip r:embed="rId1"/>
          <a:stretch/>
        </p:blipFill>
        <p:spPr>
          <a:xfrm>
            <a:off x="1116000" y="2349360"/>
            <a:ext cx="2757600" cy="216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escher sky &amp; water I"/>
          <p:cNvPicPr/>
          <p:nvPr/>
        </p:nvPicPr>
        <p:blipFill>
          <a:blip r:embed="rId2"/>
          <a:stretch/>
        </p:blipFill>
        <p:spPr>
          <a:xfrm>
            <a:off x="5508720" y="2349360"/>
            <a:ext cx="219852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sche Beschrei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ödingersche Wellengl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aussage aller atomaren Erscheinungen wird prinzipiell mögl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sserordentlich gute Übereinstimmung mit experimentellen Da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5" descr="schroedinger-1000"/>
          <p:cNvPicPr/>
          <p:nvPr/>
        </p:nvPicPr>
        <p:blipFill>
          <a:blip r:embed="rId1"/>
          <a:stretch/>
        </p:blipFill>
        <p:spPr>
          <a:xfrm>
            <a:off x="1066680" y="2565360"/>
            <a:ext cx="283536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pec-neon"/>
          <p:cNvPicPr/>
          <p:nvPr/>
        </p:nvPicPr>
        <p:blipFill>
          <a:blip r:embed="rId2"/>
          <a:stretch/>
        </p:blipFill>
        <p:spPr>
          <a:xfrm>
            <a:off x="5003640" y="2708280"/>
            <a:ext cx="323856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413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 sind durch die Anziehung zum Kern eingesper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gesperrte Wellen in der Mus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e mit Gummi- und Kunststoffschläuc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ur bestimmte Zustände sind möglich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7720" y="2457360"/>
            <a:ext cx="3527280" cy="179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30900" b="0"/>
          <a:stretch/>
        </p:blipFill>
        <p:spPr>
          <a:xfrm>
            <a:off x="5524560" y="2276640"/>
            <a:ext cx="211932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60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5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 können als dreidimensionale stehende Wellen beschrieben we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diskrete Verhalten der Elektronen in Atomen folg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ne zusätzliche Annahm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s dem Wellencharakter des Elek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ausale Erklärung (a p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213840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1000" y="2276640"/>
            <a:ext cx="245448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51:22Z</dcterms:created>
  <dc:creator>Juraj</dc:creator>
  <dc:description/>
  <dc:language>en-US</dc:language>
  <cp:lastModifiedBy>Juraj</cp:lastModifiedBy>
  <dcterms:modified xsi:type="dcterms:W3CDTF">2012-10-08T11:39:44Z</dcterms:modified>
  <cp:revision>29</cp:revision>
  <dc:subject/>
  <dc:title>Orbitalmodell im gymnasialen Chemieunterricht</dc:title>
</cp:coreProperties>
</file>